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BA0F-E26A-4FC3-8867-66EA4C4D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218-ABCB-4018-A7A0-B1EB59CB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251C-A9CA-41A1-9539-3BC7C980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2451-9A6D-4DED-80F2-8A67EEA7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AB9A-C2C5-4C77-9C4F-9D768E67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8F5-E6B7-4A4B-83C3-716B288C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CA87-6373-498B-821F-3FF63199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4C24-1A5E-4B20-96CE-7C6EFD17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861-317C-41C2-8CB1-C37805D8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B68-3CA4-48B3-886D-CB7786C9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E5A7-920F-4F44-BB5B-94A0FAC3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49B2-7318-4F55-ABA6-EE40BD15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F5A9-EF48-4DCF-81D3-633DB7DC272E}" type="slidenum">
              <a:rPr b="1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gas.at.tf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PACT-Druck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Typenrad und Nadel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N-IMPACT-Druck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Thermodruck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Tintenstrahldruck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Fotoelektrische Drucker (Las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985-E7C0-4E5F-97F5-7DC40AA114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serdruck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1981080"/>
            <a:ext cx="838188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Laserdrucker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arbeiten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  seitenorientie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Seite vor Druck im 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Arbeitsspeic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A4 - Seite benötigt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  ca. 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1,2 MB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 Speic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65A-5B91-4F90-9DD7-CE76E3983E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0292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rsicht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752480"/>
            <a:ext cx="80769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ser-Drucker produzier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schädlich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Z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fährlich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nzol u. Styr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bereits in geringer Dosieru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schädli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Räum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reichend lüf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712-A55D-4DAA-980C-6FEACA3F4B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Times New Roman"/>
              </a:rPr>
              <a:t>Home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imes New Roman"/>
              </a:rPr>
              <a:t>Weitere Arbeiten und vieles mehr auf meiner Homepage: </a:t>
            </a:r>
            <a:r>
              <a:rPr b="0" lang="de-AT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migas.at.tf</a:t>
            </a:r>
            <a:r>
              <a:rPr b="0" lang="de-A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6801-4E9A-41CD-8CC2-4F1826BCE1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Ü b e r s i c h 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1523880"/>
            <a:ext cx="3429000" cy="1312920"/>
          </a:xfrm>
          <a:prstGeom prst="rect">
            <a:avLst/>
          </a:pr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ACT-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962520"/>
            <a:ext cx="3809880" cy="1312920"/>
          </a:xfrm>
          <a:prstGeom prst="rect">
            <a:avLst/>
          </a:pr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nrad-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514240" y="2895480"/>
            <a:ext cx="205740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2895480"/>
            <a:ext cx="198108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3962520"/>
            <a:ext cx="3809880" cy="1312920"/>
          </a:xfrm>
          <a:prstGeom prst="rect">
            <a:avLst/>
          </a:pr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del-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0E0-55E1-4F74-8EAC-42EE69E6CB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apenrad und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adeldruck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2362320"/>
            <a:ext cx="64771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enrad-Druck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nur mehr selten in Gebra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eldruck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 Firmen, zuverlässig und preisgünsti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urchschläge mög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uckgeschwindigke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ca 80 - 600 Zeichen pro Seku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63E-C9C7-42BD-B098-B206CFA23A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N-IMPACT-Dru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362320"/>
            <a:ext cx="82296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uppe der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schlagfrei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teroberung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extrem leis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sehr schne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gute Druckqualitä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443-1ECE-40B4-8147-E18F12DCE6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) Der Thermodru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905120"/>
            <a:ext cx="777240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usdruck von digitalen Bild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Thermo-Transfer-Druck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: spezielle Farbfolie wird unter Thermodruckkopf durchgefüh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Thermo-Sublimations-Druck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: Wachs wird verdampft und dringt in Spezialpapier 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rilliante Farben         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sehr te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43BE-4796-4DDC-B3AF-5AE6388341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) Tintenstrahl-Dru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286000"/>
            <a:ext cx="8534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 Heimbereich beliebtester 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ringer Anschaffungspre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ehnliches Schriftbi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he Druckgeschwindigke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752-D74E-4361-A8FC-A483D3841D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Bubble-Jet-Verfah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380880" y="2133720"/>
            <a:ext cx="3886200" cy="3317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572000" y="2286000"/>
            <a:ext cx="4572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rbeitet mit Hitze und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Lebensdauer Druckkopf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200 mio. Zeiche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entspricht ca 50 000 Seite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Druckkopf in Tintenpatron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 integriert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A192-07ED-49F9-980E-6DB8E5D529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iezo - Verfah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28600" y="2362320"/>
            <a:ext cx="4343400" cy="2573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0" y="1905120"/>
            <a:ext cx="45720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sentlich höher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Lebensdau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. 2 Mrd. Zeiche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= 500 000 Sei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neller als Bubble -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 jeder Düse ei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Piezo- Keramik-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115B-A7DA-4E72-827B-E32D1F2D98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 Fotoelektrische Drucker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L a s e r  /  L E D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28600" y="2133720"/>
            <a:ext cx="4114800" cy="3449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572000" y="1752480"/>
            <a:ext cx="4572000" cy="41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serdrucker bietet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höchste Qualität (Te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ßerordentlich hoh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ruckgeschwindigk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rbeitet wi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xerografische Fotokopie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wendiges Spiegel-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ystem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B039-3C52-44FB-9675-981C2A18CB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19:07:33Z</dcterms:created>
  <dc:creator>GASPERL</dc:creator>
  <dc:description/>
  <dc:language>en-US</dc:language>
  <cp:lastModifiedBy>Michael</cp:lastModifiedBy>
  <dcterms:modified xsi:type="dcterms:W3CDTF">2003-04-15T23:37:54Z</dcterms:modified>
  <cp:revision>21</cp:revision>
  <dc:subject/>
  <dc:title>Kein Folientitel</dc:title>
</cp:coreProperties>
</file>